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F02-6293-450A-8672-90134AFB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136-5874-4A20-BD88-B956A8A7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2BF-8A7D-4A01-93CF-A38AB94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E6D-FB1F-4A58-9C28-8785A9E4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0AFD-6247-401F-87B9-F9D7154F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FAF74-42D5-4EF4-80E9-7B49BF17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65A54-585E-4C83-833E-508091A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40926-A1A0-4274-9B4D-963EB6C0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D0A9-3F53-4EA7-83F6-B6C13D0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AD5A9-0F5F-4A82-93B6-0FB7A01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2444-0B98-476D-B55F-740435E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A40-0DCD-4A0A-9CB2-8FC5834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B859-8C64-4A8A-8CD9-430E120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EABC-52E0-45AA-89C0-93313CF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3756-F9A8-42D2-AA4A-6618FE23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41F8-A099-4DDC-B9B6-C9A04C8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51A34-3755-4DC7-A4D3-31719E0E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F04-9D1C-43B6-8358-3F4607B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9D3-5F2B-4E18-9B5D-4F2B8D11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09A-C980-4ECF-B7FC-490D116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1CB-087E-4690-891B-0DFFBB2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6A8-9E1D-43D1-9770-DAE832C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A3E-258A-41CF-8496-CEA809F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E16-F118-4549-B7DB-FC01F37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FAE-580E-425E-9FA6-5F5DF9B7A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914-9114-4936-8A5F-B8D71B665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Oliver Mochmann</cp:lastModifiedBy>
  <dcterms:modified xsi:type="dcterms:W3CDTF">2009-11-17T20:54:29Z</dcterms:modified>
  <cp:revision>17</cp:revision>
  <dc:subject/>
  <dc:title>Folie 1</dc:title>
</cp:coreProperties>
</file>